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F43-83FB-475E-8D47-528AA017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3B2-FBD5-4E6D-ADEF-CA6CF05A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8EDA-C5D7-4121-93E4-C0844D4C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9174-E5B1-41B5-B1BC-89CB447A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F192-8F2A-404B-B407-B60304EC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ED06-253F-43F2-8E5F-2105919F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C104-D583-45C9-A22A-B183E27F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4783-015B-465F-BAC2-DE7E9744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A973-1BE4-4F64-8EA6-B8F8346D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4E4E-B766-40CA-A765-931F01A2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3841-7064-4001-8A63-411D6254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F9AF-3770-4208-8531-89411C25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688A-BC26-43F1-9893-F65B7494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D100-A625-4E89-B793-B690304F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1F81-6976-46E4-B239-E7C78E52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9240-CFEF-4D53-A053-B2C35D54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625E-BD49-48A5-A085-B6D32E5E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A239-48BD-4729-AE7F-D2E1A1D5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7C76-C8AE-43BB-928C-4B249E8E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B648-E776-4323-9610-7B1C5EA7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1E6-9627-42BD-A2D7-85556E33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795-284A-4168-A4EB-E61A3DDF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C0E8-4164-4D83-A7AA-610A66AA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35B-29F3-42FB-9E0D-C8ED19EA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80A3-25CE-45A8-9346-B70C023716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B9E6-F313-4D96-B83C-4346F7D472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4format.ru/" TargetMode="External"/><Relationship Id="rId2" Type="http://schemas.openxmlformats.org/officeDocument/2006/relationships/hyperlink" Target="http://moy-bereg.ru/" TargetMode="External"/><Relationship Id="rId3" Type="http://schemas.openxmlformats.org/officeDocument/2006/relationships/hyperlink" Target="http://borodina.mrezha.ru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7162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20000"/>
                </a:solidFill>
                <a:latin typeface="Times New Roman"/>
              </a:rPr>
              <a:t>Символика в романе Ф.И. Достоевского «Преступление и наказание»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742840" y="3765240"/>
            <a:ext cx="5715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Arial"/>
              </a:rPr>
              <a:t>Выполнила: Машкалёва Анастас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Arial"/>
              </a:rPr>
              <a:t>342 группа</a:t>
            </a: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5486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00"/>
                </a:solidFill>
                <a:latin typeface="Times New Roman"/>
              </a:rPr>
              <a:t>2010 год, Сыктывк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660000"/>
                </a:solidFill>
                <a:latin typeface="Times New Roman"/>
              </a:rPr>
              <a:t>Как выразить невыразимое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Вопросы с которыми мы должны познакомиться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00"/>
                </a:solidFill>
                <a:latin typeface="Times New Roman"/>
              </a:rPr>
              <a:t>Что такое симво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00"/>
                </a:solidFill>
                <a:latin typeface="Times New Roman"/>
              </a:rPr>
              <a:t>Какие символы вы можете выделить в романе Ф. М. Достоевского </a:t>
            </a:r>
            <a:br>
              <a:rPr sz="3200"/>
            </a:br>
            <a:r>
              <a:rPr b="1" i="1" lang="en-US" sz="3200" spc="-1" strike="noStrike">
                <a:solidFill>
                  <a:srgbClr val="660000"/>
                </a:solidFill>
                <a:latin typeface="Times New Roman"/>
              </a:rPr>
              <a:t>« Преступление и наказание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00"/>
                </a:solidFill>
                <a:latin typeface="Times New Roman"/>
              </a:rPr>
              <a:t>Какую роль данные символы выполняют в роман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00"/>
                </a:solidFill>
                <a:latin typeface="Times New Roman"/>
              </a:rPr>
              <a:t>План проведения проект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1) Знакомство с понятием символ. Общая характеристика символа  в романе. ( 1 ча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2) Символика красного и желтого цвета в романе.(  1 ча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3) Символика чисел 4 и 7 в романе. ( 1 ча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4) Символика фамилий в романе. ( 1час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5) Выводы по теме. Работа по группам ( выбор символа и разъяснение его содержан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( 2 час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Данный проект рассчитан на 6  час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20000"/>
                </a:solidFill>
                <a:latin typeface="Times New Roman"/>
              </a:rPr>
              <a:t>Информационные ресурсы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http://www.a4format.r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http://moy-bereg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http://borodina.mrezha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07T05:20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